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C165-57EB-4B89-8079-BA3911A748E1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C7B3-BCF2-415F-B036-93084A1F6F9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4A6A-3197-45F3-93CA-3A518FFDF777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8E97-7B8C-4CA2-A678-85182735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857-5870-4862-8343-7DE7BAB6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CBB4-E2CF-4A04-9D00-51D05550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3CE-23EE-4BD3-93AB-4756CADE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2E1B-BA8C-40E6-99A4-B9366582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665F-F4DB-4298-AE33-BF0B992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941C-91EE-40AA-81C1-A958DCEB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EC4D-E9B3-4221-8C92-8AE7A6F6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045C-658A-4547-A2DC-E5E17D76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990A-1B14-4879-93FA-51E4875B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3F5B-A15D-41DB-BF58-FDEDB07A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7F2-57F0-4BCB-813F-6D85347F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4B63-428C-4FDA-B9E8-2859C19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51A6-7FD8-427C-B1B2-EEC1BCCD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E0B0-DF94-4686-88BA-13BA6C0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B1F8-8A35-43EE-8B3E-814D74A4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EFCE-4B49-410F-A8B4-EC053EFE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1E2B-CE7E-441E-A3E5-E96A1C74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2DDC2-38D4-4D4F-B445-A172E87E4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4CCCA-5837-4ACE-B9D1-B1CA107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F025-1614-4C12-B2F6-03BF6860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5D30-B286-44CE-A7E2-0DEB1930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D7BA-1356-473A-B24F-0455D84D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81AF-F56F-4647-A4F4-63846C62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97FD-E274-4DB6-8F1B-BE5C03B5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2691-E20B-4D23-8B50-A5AF277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D455-5FCA-4C85-81EA-752F3FD7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348E-A584-4C70-A92F-8EFF8641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B58E-6F73-408A-963C-5A09B746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FE45-D632-45F3-AD42-73C8A73E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0C7-9214-4900-82DC-6FB81865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551-8059-4CEA-BBFB-3B15480A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921-46FF-4F07-84E9-6F68C05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83E-6848-47E5-B8E8-3D3E9E3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CB2-8094-4900-9D16-67FCD662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1AD-5B2F-4E36-8C4A-30DC6CE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B3B0-67CC-45F3-B430-ED618329FA5E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8B99-F237-4E33-8247-10FB437A7AE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線接點 6"/>
          <p:cNvSpPr/>
          <p:nvPr/>
        </p:nvSpPr>
        <p:spPr>
          <a:xfrm flipH="1" flipV="1">
            <a:off x="3142800" y="1213920"/>
            <a:ext cx="6000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DD9B-8F09-4786-A993-162B49ECD10D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800" y="220500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</a:t>
            </a:r>
            <a:br>
              <a:rPr sz="4000"/>
            </a:br>
            <a:r>
              <a:rPr b="1" lang="zh-TW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1" lang="zh-TW" sz="4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的奇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文大資管數位學習科技組學分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蔡淑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Oval 2"/>
          <p:cNvSpPr/>
          <p:nvPr/>
        </p:nvSpPr>
        <p:spPr>
          <a:xfrm>
            <a:off x="3500280" y="1785960"/>
            <a:ext cx="2629080" cy="26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9e8b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>
            <a:off x="3662280" y="4714920"/>
            <a:ext cx="240984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latin typeface="微軟正黑體"/>
              </a:rPr>
              <a:t>謝謝指教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微軟正黑體"/>
              <a:ea typeface="微軟正黑體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2734920" y="557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 Unicode MS"/>
              </a:rPr>
              <a:t>The Shortest Distance to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71520" y="404280"/>
            <a:ext cx="607212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560" y="170028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洛杉磯一個充斥著貧窮與暴力的地區，有一間非常不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常的公立小學教室，叫做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第</a:t>
            </a: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56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號教室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室裡的學生大多來自低收入戶，並且是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母語非英語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            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的第一代新移民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更有不少學生來自社區裡暴力、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派犯罪或破碎的家庭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             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這個班的老師叫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雷夫老師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，早上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6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點就開始上課、下午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點半才下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連寒暑假學生都自願到學校上課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                                             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到底第</a:t>
            </a:r>
            <a:r>
              <a:rPr b="0" lang="en-US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有什麼</a:t>
            </a:r>
            <a:r>
              <a:rPr b="1" lang="zh-TW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奇蹟</a:t>
            </a:r>
            <a:r>
              <a:rPr b="1" lang="en-US" sz="2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23320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一：</a:t>
            </a:r>
            <a:br>
              <a:rPr sz="2000"/>
            </a:b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十二歲的孩子，懂得忠於自己的原則，知道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品格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的重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的學生，知道何謂「道德六階段」。同時也知道「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要忠於自己的原則」。要孩子們達到更好的境界是非常高標準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90560" y="184464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二：</a:t>
            </a:r>
            <a:br>
              <a:rPr sz="2000"/>
            </a:b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從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離開的孩子，個個熱愛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閱讀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，且終身為自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 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的人生而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在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，是以「讀書時發出多少笑聲」和「流下多少淚水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來衡量學生的閱讀能力。熱愛閱讀的孩子們將擁有更美好的人生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90560" y="1773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三：</a:t>
            </a:r>
            <a:br>
              <a:rPr sz="2000"/>
            </a:b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的孩子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管理金錢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的技巧，比他們的父母還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有自己的貨幣及經濟制度，讓孩子學習記帳、保持收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平衡，並明白節儉的價值、延遲享樂來學習儲蓄，更體會父母親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取金錢的辛勞。「管理金錢」是孩子終其一生都派得上用場的技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351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四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的孩子知道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考試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只是理解的溫度計，怎麼讀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讀多少更重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的孩子們知道，一次沒考好並不代表世界末日，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只代表：他還不了解這個技巧。而雷夫老師很願意再為他講解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一次。如果數學科測驗有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選擇題，孩子們會挑出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6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錯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選項及</a:t>
            </a: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0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個正確的選項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 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與 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第</a:t>
            </a:r>
            <a:r>
              <a:rPr b="0" lang="en-US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56</a:t>
            </a: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號教室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144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五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     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在第</a:t>
            </a:r>
            <a:r>
              <a:rPr b="1" lang="en-US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56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號教室的孩子，用「</a:t>
            </a:r>
            <a:r>
              <a:rPr b="1" lang="zh-TW" sz="32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藝術</a:t>
            </a:r>
            <a:r>
              <a:rPr b="1" lang="zh-TW" sz="2000" spc="-1" strike="noStrike">
                <a:solidFill>
                  <a:srgbClr val="c00000"/>
                </a:solidFill>
                <a:latin typeface="華康中黑體"/>
                <a:ea typeface="華康中黑體"/>
              </a:rPr>
              <a:t>」當課餘嗜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70c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雷夫老師強調「藝術」的基本真理，加入管弦樂團的孩子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不只學到如何拉小提琴或吹單簧管，也學到了紀律、責任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犧牲、練習、更正錯誤、傾聽，以及時間管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藝術讓孩子們保有獨特的自我，如梭羅所說的「忠於另一種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聲，大步向前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教與學共免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1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「成功無捷徑：真正的卓越是靠犧牲、錯誤，以及大量的努力掙來的。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                                             ──</a:t>
            </a:r>
            <a:r>
              <a:rPr b="1" lang="zh-TW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雷夫老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我看雷夫老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如果說：教與學的過程是一套劇本，雷夫老師不只是要你讀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劇本，更是要你成為劇本中的一員，身歷其境會使人更能體會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雷夫老師也是一位心靈導師，將知識轉換成一生受用的技巧、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格、及信念。相較於官僚化的教育體系，教室內會有意想不到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           </a:t>
            </a:r>
            <a:r>
              <a:rPr b="0" lang="zh-TW" sz="2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奇蹟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5:38:30Z</dcterms:created>
  <dc:creator>n倪玉旻</dc:creator>
  <dc:description/>
  <dc:language>en-US</dc:language>
  <cp:lastModifiedBy>shtsai</cp:lastModifiedBy>
  <dcterms:modified xsi:type="dcterms:W3CDTF">2010-11-06T03:02:31Z</dcterms:modified>
  <cp:revision>231</cp:revision>
  <dc:subject/>
  <dc:title>投影片 1</dc:title>
</cp:coreProperties>
</file>